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3642-64A9-4F36-AEFB-944ED5A34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978F-0318-4A76-8356-A5C587C6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DBDD61-D6DB-4E9F-B66A-B550C0DA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E27AF9-4354-4659-8CB7-741377C0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A849C9-1CAC-4D90-A38F-C36784E0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786CA-D17D-484D-A860-8E16F43C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D87584-AA4A-4A17-A41C-CDA93E10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BB56F1-FA27-45EE-AFB2-D8B25094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A8E478-82AF-4D81-9048-0910F085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524408-FFFA-42B9-9D1B-F58898DF5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FF6C9-4D7E-4901-9C44-A1C76E19B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C10FE8-9643-4F06-8F10-6B50C7294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D2AD-81DB-4470-A60F-2D7CBAE66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01252E-6409-462F-A1EE-4918B068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753F4C-ABF6-4D8A-85AC-21F8FBC2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7D99B1-CACE-4886-9E90-945A2661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24A826-84F5-480F-9FA6-C4436A7F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F897AE-DE5F-49B3-A7F6-DDC5C92E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08AD41-1FB1-446A-87B7-B5673D50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9A8AB3-3AF0-4D75-B043-141255DB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50ADB5-31D9-432C-A5A6-2D5F2B59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8360D3-1C1F-4D26-9AEA-79537914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EFD97E-5875-48F3-8186-FDB533276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2821-9921-4095-980B-1558E6A8E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57342D-4B6B-4DC4-A442-4393BC600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B5925-965C-4CC6-81EF-731E060F4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7854C-FC44-4EC9-85F4-2C835DF2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C01594-CEAF-4A32-8577-9914994E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91DC3-C3A2-42E3-901C-EE491E13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C6013C-398F-4082-88DD-C9B16AF1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7B975-36D2-4E96-9306-1DF3EB93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AB1B6-F535-414B-B1AA-8CF5372D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8BC270-78EA-4953-96B7-0622E224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902E8C-3F10-4F11-A7E7-026A0F6C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F3601-A51A-461E-8562-FF73E47D9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31D18-FC65-4D71-85FA-9D13C883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C1DFCB-075D-4A01-909B-8D05046C5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8F044B-ED53-47D2-A237-54881B731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526888-51A2-4487-9109-E843928B7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110E27-5069-426F-86A3-F4C94ABD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68BDAC-4DAC-4EC5-91A5-39EB9D94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0A8009-F904-41D5-8DFF-522D33CA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4B6DD8-1B68-49A6-B6F7-B224D89E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C5B579-39C2-44C1-B49F-FA93CDF9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A3AB80-4584-4327-8589-E582EED8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B328-A9FB-426A-AB50-7F078451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1EF8C5-8460-4AFE-BCAB-9957F8E7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1CE9FF-8F82-4746-B295-03CAD7AC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F1C5AC-5C45-4DBF-8173-60E6BB8F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AB5DAF-5AB4-4AB8-AA2D-8286CB220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4793BF-F217-4F87-B0C9-2C93725F9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A14347-8D4A-4A86-9036-FBD574DF3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B7F1D5-8D0A-421F-9718-1BC93207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A78E5A-5C49-4C4E-8870-3692F23F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A47369-FC9C-4ED4-835E-10BEB1AE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A80AED-C25F-4131-B6E0-91F5ACED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3A5C5-0C96-4DA9-AD2D-AFC712BA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B6F8A0-3E89-4E79-92E8-19837711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EA6D01-6EDD-44AB-BD01-A8B7A6AF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286400-CD9D-4FCF-9481-C3A2E646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7B520B-271D-4137-9CB3-A38533D5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678894-B321-4ACD-BC8A-7125C83E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81432F-D39E-48E0-95D8-2FFAA0429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ED1C38-4B94-4E99-ACA2-634005BBF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626FBC-A3AF-49EF-8688-3B1705502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E63123-C284-419F-9039-51036A83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00F340-54EE-4222-B9F7-9F341EF0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6582-7906-427A-8ACE-AB175784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D0B743-C6A4-4643-97B7-C10B1389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DEA2BD-3F35-428C-9E1D-0387F6A4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102A56-BD9E-4559-B167-9BE1736A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060EC3-C46D-4945-AD5F-30BFC091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A93227-106B-4F11-A3B3-3CC99121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05821F-7D46-4CCB-BB4E-8A1B172C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7AC9C4-1179-4CA6-BDE1-CCD79FA0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3AEDB0-7794-47F8-8259-389DB6B5C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04F400-AF6F-4ED2-8753-1E8A9D188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1DBD95-D7CC-4368-B0CE-82A19CEFA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6235-CE87-41A1-82FA-944F3D54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6C4EAD-D0A1-454F-85B7-E9815BA9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733211-630D-4D39-8DDD-2F9E88FB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B0184F-1490-4133-AF7E-CADF845C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46B455-964E-4690-BB03-6FC62F71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BD11D4-7C53-4BF8-8C09-FC40EBB4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A8857A-F5D0-464E-A89D-BAED1515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2ABF32-76AB-4EEF-84CA-A005DBEC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4331C3-0FCE-403D-AB29-30E2E13B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506699-59ED-4B4D-9E84-6199827A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416D86-B5A1-415A-A701-42E321EEB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9A351-DEFF-4D28-A9F0-8AE0A0CC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A6BB72-A016-4B14-B002-FD602A6C0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6891-0A8F-4C6A-8144-868FA202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16BC-CB6B-49F9-AE60-FE58DA34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E570-7793-49FB-8333-976A562E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23C4B-AB6B-474F-9677-2675FFF3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7C078-04D9-4F3C-9A1E-281B4458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1D197-B38D-4444-B7BF-235220667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BF40-12E9-400C-9D35-A0DB0B3F1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70D7D-CCFF-4C40-938E-3E032FC0B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8FF7D-4105-4B3D-8C87-DAB34939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6E2BB-8685-485C-8F92-0C76D127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53421-AA76-40EA-B4DB-23E86A80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1B9E9-6DAC-4706-8FBA-9989958C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BA2C-3974-48F1-BA38-F33643F1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28F56-2BD6-4C4A-B912-A2B9B3B1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84851-F78A-41C4-9F73-EFD2F420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63780-F944-4720-9E05-6555CE9F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1A170-FB21-4EAF-BEF7-A069FBD2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CDBCB-4F09-49F1-A039-4A7C2A6E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BE75E-AF9F-4621-8035-C2B728AD1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B2BA5-5A77-41A3-97C4-28D2DFB80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3C8FC-1AF6-4DAF-BDC6-C32664ACE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CF752-3179-4284-AE6D-4828454C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415AE-D133-4463-98DB-078B1D8E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F757-F1DA-4E40-A2B8-B8818C06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6D93D-2F06-4CEE-B8A4-1884F317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3A7C9-85A4-4806-A54E-EA8D4F61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3D553-6317-48D3-B168-FAF3AB5B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657F2-A720-46E8-9365-B7CF8CCD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13881-4582-4E7F-BC03-6D610D13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13CBF-8E0C-4ABC-9103-43D8E3D1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75223-61F8-4B4B-B52E-C56E7955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EAC89-E7DC-47B8-9F0D-2113801D4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D8878-BC69-4F24-9F05-9F220632A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9C79C-5D87-4529-ADFD-43FD06DFA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8F3F-DC8C-4BC9-9489-5444DE08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A08B5-221F-4C0B-AC6E-56725B62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19049-85B0-4182-879E-45270A35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AE3D6-EA5B-495A-9670-011D3CA8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44590-56B6-4F7F-88A6-5E8DD3E5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2D8DA-262C-4F74-930E-EDA01543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4A6D2-B510-453A-A5F5-FE299145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6902A-CCC6-4F09-B3F9-5E076D8A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475DC-E9DD-4935-999F-F9785760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3158F-8F5B-4658-9B2B-DCC7E5D1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DB594-EBC2-4C90-9D92-E1464B023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249F-4A71-430C-879D-F0DBC4A5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B97CB-C617-4B2D-8853-3DD27FD0A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038D5-C115-4B7B-876F-97308079A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FE04F-1E41-416A-97BB-1529D828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17A09-328D-4F03-B445-92BE08C1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3DA31-4F1A-46A1-BD9D-C379BC98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17AA4-82CA-4E15-BDF5-8F513CC4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FBF34-E6DA-47E6-9AB3-2D5A753F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C17EA-551D-44C8-B9C8-B3D8DBCF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251DA-241C-47BF-8E6E-20710C0F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5B00D-BEFF-457A-97CB-D87C6B93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2D64-EBFF-4F1A-85F1-006FD279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B37B8-992B-4506-A12D-5C3B8BA1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5B7F5-4BA0-4E0F-8774-03AAE4A7A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AEA2C-F887-44AD-950A-641C6635F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44DBB-EA29-4879-B7A3-CF0253F32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54A49-CEC7-471D-984D-38860B77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D7265-6873-4197-8175-A425BDC0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BD910-35E4-405C-9983-0FFD97D2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46C10-4757-4473-89A8-A1FCD2D5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CDD5A-0F43-4EAA-984F-36B7C17D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054B4-02E8-4CAF-942A-B5DE76C5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F7AC-928B-4110-8D6E-C43DADFC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C63B3-A8EE-4DE5-ACA4-5C0649F4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46398-5FFA-45F5-BD48-13094BC6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4AEA9-DC31-40DD-8630-79F951CA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C5312-22E1-4B61-8216-687C7DFE6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1C516-9417-487E-9914-5F4ECD68E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C8872-DC6C-4BC1-989E-5CCD3BE23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8606B-B83C-475C-BE54-50A4682A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2F991-496D-4EBF-8EB5-3CC63488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39BC1-56AC-45C0-B836-EA734E08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09130-FAB6-49FA-BCDA-2B0B8C3A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1797-1183-4CCA-8B78-F59A5371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5124E-AAB8-49D9-862A-1430373F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A8611-BD0E-4868-940B-F67CA5FA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F1766-7D00-4F55-8928-B6E17A35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FC73A-FB26-4843-ABD6-9C5FE8C2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90A53-FA27-468A-813F-979A4454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6D2E7-A835-4D1C-B358-B435E33A1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168CE-073F-4A29-9D00-1271F1857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DE96D7-3083-44CD-A546-2DEBA2365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0B5298-3134-43A2-B49D-76D5F46D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71176A-36F5-4A7D-92A5-DC20BA6D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82A293-11A5-427A-84FD-29B52396D7FE}" type="datetime">
              <a:rPr b="0" lang="en-US" sz="1100" spc="-1" strike="noStrike">
                <a:solidFill>
                  <a:srgbClr val="bfbfbf"/>
                </a:solidFill>
                <a:latin typeface="Corbe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C0F4C1-A447-4290-B092-03E6AF7041FF}" type="slidenum">
              <a:rPr b="0" lang="en-US" sz="1100" spc="-1" strike="noStrike">
                <a:solidFill>
                  <a:srgbClr val="bfbfbf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Freeform 6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C6639E-C84B-4A1D-85F6-52844FA687F8}" type="datetime">
              <a:rPr b="0" lang="en-US" sz="1100" spc="-1" strike="noStrike">
                <a:solidFill>
                  <a:srgbClr val="bfbfbf"/>
                </a:solidFill>
                <a:latin typeface="Corbe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52CB98-2BFE-4ECB-B628-37638576F591}" type="slidenum">
              <a:rPr b="0" lang="en-US" sz="1100" spc="-1" strike="noStrike">
                <a:solidFill>
                  <a:srgbClr val="bfbfbf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Freeform 6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376025-4AA1-490D-9F61-855FAFC3D088}" type="datetime">
              <a:rPr b="0" lang="en-US" sz="1100" spc="-1" strike="noStrike">
                <a:solidFill>
                  <a:srgbClr val="bfbfbf"/>
                </a:solidFill>
                <a:latin typeface="Corbe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07B9D6-BC06-4404-BF9A-A52D5A19C339}" type="slidenum">
              <a:rPr b="0" lang="en-US" sz="1100" spc="-1" strike="noStrike">
                <a:solidFill>
                  <a:srgbClr val="bfbfbf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303A50-B73E-4DEC-8C30-87C619CAB22D}" type="datetime">
              <a:rPr b="0" lang="en-US" sz="1100" spc="-1" strike="noStrike">
                <a:solidFill>
                  <a:srgbClr val="bfbfbf"/>
                </a:solidFill>
                <a:latin typeface="Corbe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59794E-854E-452E-8115-5698EF5155C0}" type="slidenum">
              <a:rPr b="0" lang="en-US" sz="1100" spc="-1" strike="noStrike">
                <a:solidFill>
                  <a:srgbClr val="bfbfbf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reeform 6"/>
          <p:cNvSpPr/>
          <p:nvPr/>
        </p:nvSpPr>
        <p:spPr>
          <a:xfrm>
            <a:off x="281160" y="25884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7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0B2E4C-B0E8-4376-8A4D-8A8B62A2845E}" type="datetime">
              <a:rPr b="0" lang="en-US" sz="1100" spc="-1" strike="noStrike">
                <a:solidFill>
                  <a:srgbClr val="bfbfbf"/>
                </a:solidFill>
                <a:latin typeface="Corbe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8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9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277E23-365E-4BE4-AC85-80213685F2BE}" type="slidenum">
              <a:rPr b="0" lang="en-US" sz="1100" spc="-1" strike="noStrike">
                <a:solidFill>
                  <a:srgbClr val="bfbfbf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6A4FA3-DD25-4A15-A0D2-601B382FEBE0}" type="slidenum">
              <a:rPr b="0" lang="en-US" sz="1100" spc="-1" strike="noStrike">
                <a:solidFill>
                  <a:srgbClr val="bfbfbf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3A869F-D950-4C30-9B75-A4155534C5A6}" type="slidenum">
              <a:rPr b="0" lang="en-US" sz="1100" spc="-1" strike="noStrike">
                <a:solidFill>
                  <a:srgbClr val="bfbfbf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6" descr=""/>
          <p:cNvPicPr/>
          <p:nvPr/>
        </p:nvPicPr>
        <p:blipFill>
          <a:blip r:embed="rId3"/>
          <a:stretch/>
        </p:blipFill>
        <p:spPr>
          <a:xfrm>
            <a:off x="603360" y="1427040"/>
            <a:ext cx="7937280" cy="6546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537A65-4BB9-432A-A5C5-6B995BAEB842}" type="datetime">
              <a:rPr b="0" lang="en-US" sz="1100" spc="-1" strike="noStrike">
                <a:solidFill>
                  <a:srgbClr val="bfbfbf"/>
                </a:solidFill>
                <a:latin typeface="Corbe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F5A221-B467-45B1-B332-9F583F94981A}" type="slidenum">
              <a:rPr b="0" lang="en-US" sz="1100" spc="-1" strike="noStrike">
                <a:solidFill>
                  <a:srgbClr val="bfbfbf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2E4EDB-68DF-4976-B758-177554240560}" type="datetime">
              <a:rPr b="0" lang="en-US" sz="1100" spc="-1" strike="noStrike">
                <a:solidFill>
                  <a:srgbClr val="bfbfbf"/>
                </a:solidFill>
                <a:latin typeface="Corbe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90BB7C-8C32-417C-BD67-25E129736A33}" type="slidenum">
              <a:rPr b="0" lang="en-US" sz="1100" spc="-1" strike="noStrike">
                <a:solidFill>
                  <a:srgbClr val="bfbfbf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9C42D1-68AB-40D3-A444-7F72BFBDE320}" type="datetime">
              <a:rPr b="0" lang="en-US" sz="1100" spc="-1" strike="noStrike">
                <a:solidFill>
                  <a:srgbClr val="bfbfbf"/>
                </a:solidFill>
                <a:latin typeface="Corbe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600838-A38A-4658-90AB-825024CF1648}" type="slidenum">
              <a:rPr b="0" lang="en-US" sz="1100" spc="-1" strike="noStrike">
                <a:solidFill>
                  <a:srgbClr val="bfbfbf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EEB892-5B41-4B45-BA81-6AAEEB1D1ED4}" type="datetime">
              <a:rPr b="0" lang="en-US" sz="1100" spc="-1" strike="noStrike">
                <a:solidFill>
                  <a:srgbClr val="bfbfbf"/>
                </a:solidFill>
                <a:latin typeface="Corbe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B114C6-C791-4160-9E5B-0E320248B65C}" type="slidenum">
              <a:rPr b="0" lang="en-US" sz="1100" spc="-1" strike="noStrike">
                <a:solidFill>
                  <a:srgbClr val="bfbfbf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Freeform 8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Freeform 9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Freeform 10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Freeform 11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Freeform 12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Freeform 13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499ED4-0AEB-4708-B460-A9363C560011}" type="datetime">
              <a:rPr b="0" lang="en-US" sz="1100" spc="-1" strike="noStrike">
                <a:solidFill>
                  <a:srgbClr val="bfbfbf"/>
                </a:solidFill>
                <a:latin typeface="Corbe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02A35A-050A-4F9B-8D85-70A88EF111E1}" type="slidenum">
              <a:rPr b="0" lang="en-US" sz="1100" spc="-1" strike="noStrike">
                <a:solidFill>
                  <a:srgbClr val="bfbfbf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reeform 6"/>
          <p:cNvSpPr/>
          <p:nvPr/>
        </p:nvSpPr>
        <p:spPr>
          <a:xfrm>
            <a:off x="281160" y="25884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A7149C-C0DB-4C77-853A-30EF2B8AAAE8}" type="datetime">
              <a:rPr b="0" lang="en-US" sz="1100" spc="-1" strike="noStrike">
                <a:solidFill>
                  <a:srgbClr val="bfbfbf"/>
                </a:solidFill>
                <a:latin typeface="Corbe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B7A39D-5644-4FE3-8EC5-C5CCA8872DE2}" type="slidenum">
              <a:rPr b="0" lang="en-US" sz="1100" spc="-1" strike="noStrike">
                <a:solidFill>
                  <a:srgbClr val="bfbfbf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reeform 6"/>
          <p:cNvSpPr/>
          <p:nvPr/>
        </p:nvSpPr>
        <p:spPr>
          <a:xfrm>
            <a:off x="281160" y="25884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D78A06-1DDA-4BD1-864E-970097162782}" type="datetime">
              <a:rPr b="0" lang="en-US" sz="1100" spc="-1" strike="noStrike">
                <a:solidFill>
                  <a:srgbClr val="bfbfbf"/>
                </a:solidFill>
                <a:latin typeface="Corbe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B0EEAC-8AFF-4BE7-97D1-CB7946F1C71E}" type="slidenum">
              <a:rPr b="0" lang="en-US" sz="1100" spc="-1" strike="noStrike">
                <a:solidFill>
                  <a:srgbClr val="bfbfbf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Freeform 6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5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4BDD4B-B117-4A2D-ADEA-D92ADD0ACDDD}" type="datetime">
              <a:rPr b="0" lang="en-US" sz="1100" spc="-1" strike="noStrike">
                <a:solidFill>
                  <a:srgbClr val="bfbfbf"/>
                </a:solidFill>
                <a:latin typeface="Corbe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6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7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08BAFE-A890-41A6-8DB5-F46975C9D239}" type="slidenum">
              <a:rPr b="0" lang="en-US" sz="1100" spc="-1" strike="noStrike">
                <a:solidFill>
                  <a:srgbClr val="bfbfbf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Title 1" descr=""/>
          <p:cNvPicPr/>
          <p:nvPr/>
        </p:nvPicPr>
        <p:blipFill>
          <a:blip r:embed="rId2"/>
          <a:stretch/>
        </p:blipFill>
        <p:spPr>
          <a:xfrm>
            <a:off x="652320" y="1530360"/>
            <a:ext cx="783936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29200" y="-37188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arbon Cycle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0" y="8064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 u="sng">
                <a:solidFill>
                  <a:srgbClr val="ffffff"/>
                </a:solidFill>
                <a:uFillTx/>
                <a:latin typeface="Corbel"/>
              </a:rPr>
              <a:t>Animals get carbon from the plants and other animals they eat.</a:t>
            </a:r>
            <a:endParaRPr b="0" lang="en-US" sz="49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-111240" y="108000"/>
            <a:ext cx="785664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arbon Cycle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217440" y="3622320"/>
            <a:ext cx="892656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5160" indent="-33516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ffff"/>
                </a:solidFill>
                <a:uFillTx/>
                <a:latin typeface="Corbel"/>
              </a:rPr>
              <a:t>Plants and animals release carbon dioxide into the air during cellular respiration.</a:t>
            </a:r>
            <a:endParaRPr b="0" lang="en-US" sz="5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Let’s Practice…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1028520" indent="-1028520">
              <a:spcBef>
                <a:spcPts val="2001"/>
              </a:spcBef>
              <a:buClr>
                <a:srgbClr val="ffffff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rbel"/>
              </a:rPr>
              <a:t>How do animals get carbon?</a:t>
            </a:r>
            <a:endParaRPr b="0" lang="en-US" sz="5000" spc="-1" strike="noStrike">
              <a:solidFill>
                <a:srgbClr val="ffffff"/>
              </a:solidFill>
              <a:latin typeface="Corbel"/>
            </a:endParaRPr>
          </a:p>
          <a:p>
            <a:pPr marL="1028520" indent="-1028520">
              <a:spcBef>
                <a:spcPts val="2001"/>
              </a:spcBef>
              <a:buClr>
                <a:srgbClr val="ffffff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rbel"/>
              </a:rPr>
              <a:t>Does cellular respiration take carbon dioxide out of the air or put carbon dioxide into the air?</a:t>
            </a:r>
            <a:endParaRPr b="0" lang="en-US" sz="5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arbon Cycle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0" y="3622680"/>
            <a:ext cx="9144000" cy="29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ffffff"/>
                </a:solidFill>
                <a:uFillTx/>
                <a:latin typeface="Corbel"/>
              </a:rPr>
              <a:t>Decaying plants, animals, and phytoplankton turn into fossil fuels after millions of years.</a:t>
            </a:r>
            <a:endParaRPr b="0" lang="en-US" sz="45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arbon Cycle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0" y="3622680"/>
            <a:ext cx="9067680" cy="29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 u="sng">
                <a:solidFill>
                  <a:srgbClr val="ffffff"/>
                </a:solidFill>
                <a:uFillTx/>
                <a:latin typeface="Corbel"/>
              </a:rPr>
              <a:t>Fossil fuels like coal, oil, and natural gas release carbon dioxide back into the air when they are burned in cars and factories.</a:t>
            </a:r>
            <a:endParaRPr b="0" lang="en-US" sz="4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Let’s Practice…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1028520" indent="-1028520">
              <a:spcBef>
                <a:spcPts val="2001"/>
              </a:spcBef>
              <a:buClr>
                <a:srgbClr val="ffffff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rbel"/>
              </a:rPr>
              <a:t>What do decaying plants and animals turn into after millions of years?</a:t>
            </a:r>
            <a:endParaRPr b="0" lang="en-US" sz="5000" spc="-1" strike="noStrike">
              <a:solidFill>
                <a:srgbClr val="ffffff"/>
              </a:solidFill>
              <a:latin typeface="Corbel"/>
            </a:endParaRPr>
          </a:p>
          <a:p>
            <a:pPr marL="1028520" indent="-1028520">
              <a:spcBef>
                <a:spcPts val="2001"/>
              </a:spcBef>
              <a:buClr>
                <a:srgbClr val="ffffff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rbel"/>
              </a:rPr>
              <a:t>What happens when fossil fuels are burned?</a:t>
            </a:r>
            <a:endParaRPr b="0" lang="en-US" sz="5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307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2.5 The Carbon Cycle: Independent Practice</a:t>
            </a: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Corbel"/>
              </a:rPr>
              <a:t>Homework – Draw a picture of the carbon cycle; this will be counted in your next binder grade.</a:t>
            </a:r>
            <a:endParaRPr b="0" lang="en-US" sz="5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Bellringer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rbel"/>
              </a:rPr>
              <a:t>What is photosynthesis?    </a:t>
            </a:r>
            <a:endParaRPr b="0" lang="en-US" sz="5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Agenda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nticipatory Se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Bellringer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Agenda and announcement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Big goal connection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nput, Modeling, and Cfu’s: the carbon cycl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Guided Practice: team work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ndependent Practice: handou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osing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2017440"/>
            <a:ext cx="7772400" cy="16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2.5 The Carbon Cycle: Class Notes</a:t>
            </a:r>
            <a:endParaRPr b="0" lang="en-US" sz="6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The Carbon Cycle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 u="sng">
                <a:solidFill>
                  <a:srgbClr val="ffffff"/>
                </a:solidFill>
                <a:uFillTx/>
                <a:latin typeface="Corbel"/>
              </a:rPr>
              <a:t>The carbon cycle is the journey that carbon takes into and out of the air.</a:t>
            </a:r>
            <a:endParaRPr b="0" lang="en-US" sz="6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Let’s Practice…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orbel"/>
              </a:rPr>
              <a:t>What is the carbon cycle?</a:t>
            </a:r>
            <a:endParaRPr b="0" lang="en-US" sz="6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36760" y="108000"/>
            <a:ext cx="392580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arbon Cycle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498600" y="3622680"/>
            <a:ext cx="842328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ffffff"/>
                </a:solidFill>
                <a:uFillTx/>
                <a:latin typeface="Corbel"/>
              </a:rPr>
              <a:t>Carbon dioxide is taken out of the air by plants during photosynthesis.</a:t>
            </a:r>
            <a:endParaRPr b="0" lang="en-US" sz="45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75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Phytoplankton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-360" y="952560"/>
            <a:ext cx="885996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ffffff"/>
                </a:solidFill>
                <a:uFillTx/>
                <a:latin typeface="Corbel"/>
              </a:rPr>
              <a:t>Single-celled organisms called phytoplankton live in the oceans and take carbon dioxide out of the air.</a:t>
            </a:r>
            <a:endParaRPr b="0" lang="en-US" sz="4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Let’s Practice…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1. What process do plants use that takes carbon dioxide out the air?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2. Other than plants, what else takes carbon dioxide out of the air?  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3. Where do they live?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2:55:04Z</dcterms:created>
  <dc:creator>Caroline Roth</dc:creator>
  <dc:description/>
  <dc:language>en-US</dc:language>
  <cp:lastModifiedBy>Caroline Roth</cp:lastModifiedBy>
  <dcterms:modified xsi:type="dcterms:W3CDTF">2011-05-23T23:08:06Z</dcterms:modified>
  <cp:revision>14</cp:revision>
  <dc:subject/>
  <dc:title>2.5 Carbon Cycle</dc:title>
</cp:coreProperties>
</file>